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E293-4EC2-458A-8846-EC9254AEF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8E05-089D-4B5D-BD09-D49D326FE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8BF6-D36D-4A6C-90E6-848D9CA03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4E5E-C7A5-49B7-9699-3B501A358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60DA-395E-4958-B893-BB74DF4F5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0D13-EBCD-4144-AD8E-FDA53496B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CD8D-57BB-4AE2-B5B7-8EA49275F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C8A9-3DA3-418A-96A3-D9A5B7955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59CF-344E-4B76-BDA0-69DCDAE44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0C99-CE94-458F-BF18-D36D88BA7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98BA-A7D6-4C79-97BC-D251643AE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4B75-F9CC-4476-B45D-C5CAECF27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BC2BD-ECF1-4106-A996-4E67503E5B1B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068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فصل الثام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تحليل التقارير المالية في ظل التضخم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1878-A257-489E-BEC1-9DA7CF709DC6}" type="slidenum">
              <a:t>1</a:t>
            </a:fld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67080" y="1477800"/>
            <a:ext cx="7660800" cy="1031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d6ff99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ا هو التضخم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70320" y="3191040"/>
            <a:ext cx="7650720" cy="219276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28440">
            <a:solidFill>
              <a:srgbClr val="3333cc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زيادة كمية النقود المتوفرة على كمية السلع والخدمات المعروض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زيادة العامة في الاسعا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نخفاض القوة الشرائية للنقود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من: تحليل التقارير المالية في ظل التضخ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4AA7-42A9-4D4F-B792-8834E1AC6E9C}" type="slidenum">
              <a:t>2</a:t>
            </a:fld>
          </a:p>
        </p:txBody>
      </p:sp>
    </p:spTree>
  </p:cSld>
  <p:transition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052280"/>
            <a:ext cx="77724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d6ff99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66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طرق تعديل القوائم المال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362320" y="3002040"/>
            <a:ext cx="4114800" cy="828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طريقة وحدة النقد المتجانس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362320" y="4678200"/>
            <a:ext cx="4267080" cy="838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طريقة التكلفة الجار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من: تحليل التقارير المالية في ظل التضخ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8AB6-84DC-4AD0-A00D-2BC64B70A004}" type="slidenum">
              <a:t>3</a:t>
            </a:fld>
          </a:p>
        </p:txBody>
      </p:sp>
    </p:spTree>
  </p:cSld>
  <p:transition>
    <p:random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685800" y="1346040"/>
            <a:ext cx="7772760" cy="9082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d6ff99"/>
              </a:gs>
              <a:gs pos="100000">
                <a:srgbClr val="ccccff"/>
              </a:gs>
            </a:gsLst>
            <a:lin ang="5400000"/>
          </a:gradFill>
          <a:ln w="3816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طريقة وحدة النقد المتجانس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9640" y="2917800"/>
            <a:ext cx="8015400" cy="33195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تعديل التكلفة التاريخية للاصول والالتزامات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على أساس وحدة نقدية ذات قوة شرائية متساوية مرتبطة بالتغير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في المستوى العام للاسعا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وبناءً عليه يتم تصنيف محتويات قائمة المركز المالي إلى نوعي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من الحسابات: الحسابات النقدية والحسابات غير النقد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791320" y="641664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من: تحليل التقارير المالية في ظل التضخ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2548-C4A2-4451-B018-C84748BA44BE}" type="slidenum">
              <a:t>4</a:t>
            </a:fld>
          </a:p>
        </p:txBody>
      </p:sp>
    </p:spTree>
  </p:cSld>
  <p:transition>
    <p:random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8201160" y="1714680"/>
            <a:ext cx="360360" cy="374472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360" y="825120"/>
            <a:ext cx="8020080" cy="947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2b2b2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طريقة وحدة النقد المتجانس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2205000"/>
            <a:ext cx="6933960" cy="1681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d6ff99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 rtl="1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حسابات النقدية مثل المدينون واوراق القبض والمصروفات المقدمة والدائنون واوراق الدفع والمصروفات المستحقة 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Times New Roman"/>
                <a:cs typeface="PT Bold Heading"/>
              </a:rPr>
              <a:t>لا تعدل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55640" y="4365720"/>
            <a:ext cx="7010280" cy="180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d6ff99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 rtl="1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حسابات غير النقدية مثل المخزون والمباني وحقوق الملكية تعدل على النحو التالي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تكلفة التاريخية (الرقم القياسي للاسعار الآن / الرقم القياسي للاسعار وقت الشراء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10800000">
            <a:off x="7596360" y="2852280"/>
            <a:ext cx="792000" cy="360360"/>
          </a:xfrm>
          <a:custGeom>
            <a:avLst/>
            <a:gdLst>
              <a:gd name="textAreaLeft" fmla="*/ 0 w 792000"/>
              <a:gd name="textAreaRight" fmla="*/ 792360 w 7920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rot="10800000">
            <a:off x="7740720" y="5113080"/>
            <a:ext cx="792000" cy="360360"/>
          </a:xfrm>
          <a:custGeom>
            <a:avLst/>
            <a:gdLst>
              <a:gd name="textAreaLeft" fmla="*/ 0 w 792000"/>
              <a:gd name="textAreaRight" fmla="*/ 792360 w 7920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791320" y="641664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من: تحليل التقارير المالية في ظل التضخ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BB1B-A057-4F77-847A-2E6B7FCD5E5F}" type="slidenum">
              <a:t>5</a:t>
            </a:fld>
          </a:p>
        </p:txBody>
      </p:sp>
    </p:spTree>
  </p:cSld>
  <p:transition>
    <p:random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685800" y="1203120"/>
            <a:ext cx="7772760" cy="9079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d6ff99"/>
              </a:gs>
              <a:gs pos="100000">
                <a:srgbClr val="ccccff"/>
              </a:gs>
            </a:gsLst>
            <a:lin ang="5400000"/>
          </a:gradFill>
          <a:ln w="3816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طريقة التكلفة الجا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04960" y="2917800"/>
            <a:ext cx="7512120" cy="3319560"/>
          </a:xfrm>
          <a:prstGeom prst="ellipse">
            <a:avLst/>
          </a:prstGeom>
          <a:gradFill rotWithShape="0">
            <a:gsLst>
              <a:gs pos="0">
                <a:srgbClr val="ccccff"/>
              </a:gs>
              <a:gs pos="50000">
                <a:srgbClr val="d6ff99"/>
              </a:gs>
              <a:gs pos="100000">
                <a:srgbClr val="ccccff"/>
              </a:gs>
            </a:gsLst>
            <a:lin ang="5400000"/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تعدل التكلفة التاريخية على أساس تكلفة الاحلال الجارية في السو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للأصول المماثلة في العمر والكفاءة والطاقة الإنتاج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791320" y="634536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من: تحليل التقارير المالية في ظل التضخ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1AF1-D1DB-4688-A47B-40DD1C2FA85B}" type="slidenum">
              <a:t>6</a:t>
            </a:fld>
          </a:p>
        </p:txBody>
      </p:sp>
    </p:spTree>
  </p:cSld>
  <p:transition>
    <p:random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8T10:54:15Z</dcterms:created>
  <dc:creator>**</dc:creator>
  <dc:description/>
  <dc:language>en-US</dc:language>
  <cp:lastModifiedBy>****</cp:lastModifiedBy>
  <dcterms:modified xsi:type="dcterms:W3CDTF">2003-12-08T01:13:06Z</dcterms:modified>
  <cp:revision>18</cp:revision>
  <dc:subject/>
  <dc:title>التحليل المالي والائتماني</dc:title>
</cp:coreProperties>
</file>